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99C7-BCE7-4855-8A22-3CCB84515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315-0B42-4898-B9EE-75E43D891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DE69-35C4-4805-B125-CD3DEFF9F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0AE-F618-417E-8A1D-2919E0186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574A-AFC3-4C23-9AB1-8C8C25619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036-6147-4282-89BF-D29F83246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DEBE-A26D-4E15-9363-813AA6781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4301-B980-40A6-A576-AFF3E1A0C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84E-5CF3-4660-8476-A1AA42D35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78F-2BA0-472B-9F7D-DF89F3D62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9F3C-D8BE-4CA5-A749-39ACDA665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EA1E-0444-4C7A-B9D7-AE1386229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6B9-7833-4D57-AA62-A608BA18B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78A-143D-4003-8AF1-BA0F31B4E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3A0-7EC2-40FC-AAF1-14556EF1C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406D-06D9-4676-A58A-BDE4A5640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354E-6E04-4D0B-ACD3-BB059C03E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5534-AD24-4FD3-8C95-1B830DD2A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E8E-184B-4599-9E4C-032DE8896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7963-D750-4F2F-A65E-580ABC322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4F4-F826-45A7-81F3-1F1D7792B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BEBE-A9E2-4B7B-87F3-4F85D767D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FBD0-9F18-478A-9A1E-7E3BA3138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E53D-3B44-4BED-86B6-C4C4D3323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89F-165F-4885-B3DF-526A4D05C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2B25-CD91-44B3-8714-FAA05B794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534-F095-4F9D-9CE1-44C1E1CD1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75B-1CBB-4DC6-9365-5019846EA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6DC-54A9-4732-B006-AB54D091A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716-4EE0-447B-B460-F28EF5EAB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2F3-F331-4DC1-A6BB-B7B5758CC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393C-2E30-47AB-A729-BAC040FF6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E37-C074-47CB-BA1A-44A208342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D31-B73E-4ECD-91C9-D6BF95BDB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F886-0B7D-45CB-A6B2-C7D7598AA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3EC-28F3-4BD7-BD30-E6083C00D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D40C-82D1-4658-8F28-7792D394E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7265-24A9-4D9B-8030-DC501BE2B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7CCD-C338-488B-A8C6-123F935F0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FFB-249D-4D1F-B860-CFA756D5F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9D3-F0FD-43DF-9E77-2796A7F86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6429-D96D-4289-BF45-D56EA8164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826-C8F1-47AF-8F7D-642AA455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72F-C8B4-4A13-AE27-C84750FAF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BF2-07E4-4B71-A8BB-BA89BC40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26A-262A-4F0F-81FF-2E8C25A9C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4AD-2974-4B2F-87CD-45D48489A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8C3-65FB-442E-86EF-362F87E6D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5C5B-DACE-4FD3-AC3A-EF8E7700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F23-0D9A-4921-A8A1-6AD7BA02B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399-7F90-49B3-8084-9240769BA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01B-DB11-4290-9815-BA94D2F03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1B88-0F7A-410A-AA53-000C318AA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8B9-4628-4E5D-AE20-6DE81F21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1A2-06D0-4521-A2AF-03509E2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213-597F-4AAE-9D41-4076D4A0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9C8-92CD-4E07-8F52-D7F628C2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0E9-B20B-4679-877C-6CF5914A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D262-FD46-4147-80B4-945F0DD9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43D-78F0-4BBF-826B-8759FA6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A73-76DA-416B-BFD8-0FE29912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153-2C31-4E1B-BC1C-D82907B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CEC-C015-473E-9A9E-E71CFAE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88F-AA18-4D0C-B445-4E71ED5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FCA-831C-4157-BFE6-5914293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B1A-0B0E-49DE-BD55-1D67BE8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48FB-3C63-4DD2-BE56-4C52623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394-D1B9-47CF-916C-FB6C89A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B1CA-83E5-4E4B-9A78-F63F1C74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6A2-895C-4EF0-8847-C3FBA413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DEF-5C2A-49BA-B940-D0461DA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2A9-3795-4F45-8458-FB4C44E6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04B-B9FC-495E-90E4-163FFA2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842-BB0D-436F-81D7-54DB4C01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3B5-19CC-4CAD-8A1D-439C847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A5C-DF6A-454B-8AB2-E77E093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6F6-B9B8-463A-9A9F-F34B0FF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CA4C-4D9A-4F4D-BD7C-76FA556E0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l and Other Poem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r heads are round so ______ can change direction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Blan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u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untries were Ginsberg expelled from in 1965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b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zechoslovaki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religion did he convert to after he left Judais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ddahis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other activities was Allen fond of later in lif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graphy and music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drug Allen Ginsberg signed up to be a test subject fo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esting Fa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luen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ous Wo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 Sto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bout Allen’s mother had a great impact on his lif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was mentally ill and eventually admitted to an insane aslyum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id Ginsberg first learn about poet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 father recited poetry to Allen and his brother when they were young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was Allen’s favorite po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lt Whitma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ere some older “Beat Generation” authors that helped Ginsberg become involved in poet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liam S. Burroughs, Neal Cassidy, Jack Kerouac, David Krammer, Herbert Huncke, and Lucien Car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famous poet was Ginsberg often compared to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was one of Allen Ginsberg’s most famous quote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lt Whitma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eacher introduced Ginsberg to Whitman’s work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 high school teacher, Francis Durb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at year was “Howl and Other Poems,” publish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name of the book he wrote with William S. Burrough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age Letter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Ginsberg’s first published work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l and Other Poem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oem did Allen write while he was in San Francisc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low your inner moonlight; don't hide the madness.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ng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id Allen first read “Kaddish?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umbia University’s McMillan Theat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Allen Ginsberg full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rwin Allen Ginsbe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id Ginsberg attend colleg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umbia Univers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what college did Ginsberg become a professor 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ooklyn Colle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name of Ginsberg’s life-long partner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erm was supposedly coined by Ginsber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r Orlovsk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at year did Allen Ginsberg d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9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ower Power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weight of the world is love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he burden of solitude,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he burden of dissatisfaction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weight, the weight we carry is ____. 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blank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thing is holy! Everybody's holy! Everywhere is holy! Everyday is in eternity! Everyman's an angel!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oem is this fr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byremm17</cp:lastModifiedBy>
  <dcterms:modified xsi:type="dcterms:W3CDTF">2013-10-25T17:31:13Z</dcterms:modified>
  <cp:revision>30</cp:revision>
  <dc:subject>Jeopardy Template</dc:subject>
  <dc:title>POWERPOINT JEOPARDY</dc:title>
</cp:coreProperties>
</file>